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9096-7E53-43CC-BB26-06F68452B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537F-51D1-4CB3-A0AB-2025C2A2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73F0-C793-46F5-9F23-DF46EF46F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8557-7A0B-4DDA-8BA6-6FCEB5FCC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B025-BAF0-4EB5-A550-D4BE8A09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6B85-06D3-428F-9253-582B5DE8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47D6-013B-4B84-AF1F-146C9246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0CA9-0214-433A-A599-D5FD1371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4BDD-54F4-4D50-843F-23F88C00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5E76-8D1B-4811-8F7A-EF00CC9D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AE7F-C47C-4BD9-8EF9-94BE6D39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76E5-5587-4ECC-9D26-6AE75EB4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F9E4-68F0-4E72-8483-2977FB9F4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virtualdubmod" TargetMode="External"/><Relationship Id="rId2" Type="http://schemas.openxmlformats.org/officeDocument/2006/relationships/hyperlink" Target="http://sourceforge.net/projects/virtualdubmod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4160" y="1066680"/>
            <a:ext cx="8610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ideo Data Collected on R/V Endeavor August 3-18, 2006 </a:t>
            </a:r>
            <a:br>
              <a:rPr sz="36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Lyzeng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anda Dy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of Michi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06 Review Meeting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Jolla, C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 30 - Feb 1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762120" y="152352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overview purposes, 3 minutes of video data were selected starting at 4 minutes from start of Disk 17B, using one frame per second (frames 7200 to 12600, every 3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a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other line was selected, and pairs of samples averaged along each line, resulting in 180 360x240-pixel im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frame was trimmed horizontally and padded vertically to form 256x256 subsets for FFT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-D FFTs were squared, quadrant-flipped, log transformed, and scaled uniformly to produce a sequence of image spec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deo Data Process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deo Images</a:t>
            </a:r>
            <a:br>
              <a:rPr sz="3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:39:41 – 19:42:41 GMT on August 9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347" t="0" r="1056" b="0"/>
          <a:stretch/>
        </p:blipFill>
        <p:spPr>
          <a:xfrm>
            <a:off x="1998720" y="1828800"/>
            <a:ext cx="5108400" cy="345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116000" y="1801800"/>
            <a:ext cx="6910560" cy="3456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bined Images and Spectra</a:t>
            </a:r>
            <a:br>
              <a:rPr sz="3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:39:41 – 19:42:41 GMT on August 9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838080" y="15238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face wave spectral perturb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face currents from 3-D spectra and/or feature tra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 of wave breaking from wide-angle im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sons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 sit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asurements, radar and remote sensing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ggested collaborat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W (Henyey) – i.w. displacements, surface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W (Plant) and Miami (Graber) – near-surface radar, remote sensing (SAR) 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alysis Pla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79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W06 Video Data Collection</a:t>
            </a:r>
            <a:br>
              <a:rPr sz="3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R/V Endeav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81040" y="1873080"/>
            <a:ext cx="7953480" cy="4071240"/>
            <a:chOff x="581040" y="1873080"/>
            <a:chExt cx="7953480" cy="4071240"/>
          </a:xfrm>
        </p:grpSpPr>
        <p:pic>
          <p:nvPicPr>
            <p:cNvPr id="45" name="" descr=""/>
            <p:cNvPicPr/>
            <p:nvPr/>
          </p:nvPicPr>
          <p:blipFill>
            <a:blip r:embed="rId1"/>
            <a:srcRect l="13184" t="0" r="4394" b="0"/>
            <a:stretch/>
          </p:blipFill>
          <p:spPr>
            <a:xfrm>
              <a:off x="581040" y="1873080"/>
              <a:ext cx="3838680" cy="348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2"/>
            <a:srcRect l="10986" t="0" r="6592" b="0"/>
            <a:stretch/>
          </p:blipFill>
          <p:spPr>
            <a:xfrm>
              <a:off x="4695840" y="1873080"/>
              <a:ext cx="3838680" cy="34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4876920" y="5607000"/>
              <a:ext cx="3504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manda with DVD recorder in la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74640" y="5607000"/>
              <a:ext cx="365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ideo camera installation on bow ma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838080" y="1752120"/>
            <a:ext cx="7467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eras were mounted 10.2 meters above the water surface, looking forward at an angle of 45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the vertic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ngular FOV was approximately 6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camera 1 and 2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camer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es from camera 2 are approximately 5 meters on a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was recorded on two DVD recorders at 30 frames per second (480x720 interlaced pixels per fra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code signals from a Horita time code generator were recorded on one of the audio channels, and GPS data from the R/V Endeavor were recorded on the other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Collection Detai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33320" y="821880"/>
            <a:ext cx="58514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Wide-Angle Video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ed 21:17:47 – 21:19:17 GMT on August 10, 20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28800" y="1982880"/>
            <a:ext cx="5484960" cy="365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947880" y="2362320"/>
            <a:ext cx="7247880" cy="3270960"/>
            <a:chOff x="947880" y="2362320"/>
            <a:chExt cx="7247880" cy="3270960"/>
          </a:xfrm>
        </p:grpSpPr>
        <p:pic>
          <p:nvPicPr>
            <p:cNvPr id="54" name="" descr=""/>
            <p:cNvPicPr/>
            <p:nvPr/>
          </p:nvPicPr>
          <p:blipFill>
            <a:blip r:embed="rId1"/>
            <a:srcRect l="12499" t="24998" r="5625" b="48330"/>
            <a:stretch/>
          </p:blipFill>
          <p:spPr>
            <a:xfrm>
              <a:off x="947880" y="2362320"/>
              <a:ext cx="7247880" cy="176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2"/>
            <a:srcRect l="12499" t="29165" r="5625" b="48330"/>
            <a:stretch/>
          </p:blipFill>
          <p:spPr>
            <a:xfrm>
              <a:off x="947880" y="4141080"/>
              <a:ext cx="7247880" cy="14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"/>
          <p:cNvSpPr/>
          <p:nvPr/>
        </p:nvSpPr>
        <p:spPr>
          <a:xfrm>
            <a:off x="1322640" y="685440"/>
            <a:ext cx="6471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High-Resolution Video Im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 frames selected at 20-second time interval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crossing an internal wave on August 9, 20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66320" y="5805360"/>
            <a:ext cx="52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lower panels show corresponding image spect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838080" y="1676520"/>
            <a:ext cx="7467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S signals were reconstructed from audio channel recordings and decoded in order to establish time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deo frames are extracted from the DVD recordings and converted to BMP images using the VirtualDubMod tool (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ourceforge.net/projects/virtualdubm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e scan lines are selected to remove interlacing effects, and image spectra calculated using 2-D FF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Process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838080" y="1523520"/>
            <a:ext cx="7467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S serial data is distributed at 4800 baud (bits/sec) and recorded on DVD audio channel at 48000 samples/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zeros are represented by a positive voltage and ones by a negative vol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character is represented by a (zero) start bit, eight data bits (in reverse order, with most significant bit first), and a stop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dio Channel (GPS Data) Process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3256" t="48514" r="0" b="6328"/>
          <a:stretch/>
        </p:blipFill>
        <p:spPr>
          <a:xfrm>
            <a:off x="1728720" y="4290840"/>
            <a:ext cx="5434200" cy="19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838080" y="1294920"/>
            <a:ext cx="74678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S data consists of four types of NMEA strings (GPGLL, GPVTG, GPZDA, and HEHDT) each transmitted about once per second and one string (GPGGA) transmitted at irregular inter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S time (UT) stored in GPZDA string was correlated with sample number to establish time base for DVD record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tilization of GP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666880" y="3583080"/>
            <a:ext cx="3656160" cy="274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ip Track and Spe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09440" y="1295280"/>
            <a:ext cx="8902800" cy="4122720"/>
            <a:chOff x="109440" y="1295280"/>
            <a:chExt cx="8902800" cy="4122720"/>
          </a:xfrm>
        </p:grpSpPr>
        <p:pic>
          <p:nvPicPr>
            <p:cNvPr id="68" name="" descr=""/>
            <p:cNvPicPr/>
            <p:nvPr/>
          </p:nvPicPr>
          <p:blipFill>
            <a:blip r:embed="rId1"/>
            <a:srcRect l="6244" t="0" r="6244" b="0"/>
            <a:stretch/>
          </p:blipFill>
          <p:spPr>
            <a:xfrm>
              <a:off x="4203720" y="1295280"/>
              <a:ext cx="4808520" cy="4122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" name=""/>
            <p:cNvGrpSpPr/>
            <p:nvPr/>
          </p:nvGrpSpPr>
          <p:grpSpPr>
            <a:xfrm>
              <a:off x="109440" y="1295280"/>
              <a:ext cx="4122720" cy="4122720"/>
              <a:chOff x="109440" y="1295280"/>
              <a:chExt cx="4122720" cy="4122720"/>
            </a:xfrm>
          </p:grpSpPr>
          <p:pic>
            <p:nvPicPr>
              <p:cNvPr id="70" name="" descr=""/>
              <p:cNvPicPr/>
              <p:nvPr/>
            </p:nvPicPr>
            <p:blipFill>
              <a:blip r:embed="rId2"/>
              <a:srcRect l="12489" t="0" r="12489" b="0"/>
              <a:stretch/>
            </p:blipFill>
            <p:spPr>
              <a:xfrm>
                <a:off x="109440" y="1295280"/>
                <a:ext cx="4122720" cy="4122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1" name=""/>
              <p:cNvGrpSpPr/>
              <p:nvPr/>
            </p:nvGrpSpPr>
            <p:grpSpPr>
              <a:xfrm>
                <a:off x="1295280" y="2717640"/>
                <a:ext cx="2210040" cy="2014560"/>
                <a:chOff x="1295280" y="2717640"/>
                <a:chExt cx="2210040" cy="201456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1295280" y="2717640"/>
                  <a:ext cx="304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star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3200400" y="4579560"/>
                  <a:ext cx="304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stop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4" name=""/>
          <p:cNvSpPr/>
          <p:nvPr/>
        </p:nvSpPr>
        <p:spPr>
          <a:xfrm>
            <a:off x="1905120" y="5791320"/>
            <a:ext cx="541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rapid fluctuations in ship speed indicate internal wave activity? (Ship speed should remain fairly constant relative to wa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19:50:01Z</dcterms:created>
  <dc:creator> David R. Lyzenga</dc:creator>
  <dc:description/>
  <dc:language>en-US</dc:language>
  <cp:lastModifiedBy> David R. Lyzenga</cp:lastModifiedBy>
  <dcterms:modified xsi:type="dcterms:W3CDTF">2007-01-24T21:33:02Z</dcterms:modified>
  <cp:revision>53</cp:revision>
  <dc:subject/>
  <dc:title>Slide 1</dc:title>
</cp:coreProperties>
</file>