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745-944F-4C22-B8A3-7C53CA73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345-FC7D-4767-A186-FBD84376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77F-50E7-4C09-A3E9-BD28EE87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811-5A43-4F5F-A2EE-1661851C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89A-916E-4F0F-BFF6-47751817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757-3F76-4B05-ABAC-B34257CA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C70-F6C6-4E7A-9E7B-09A000C6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059-9A98-4C10-A834-91C6869D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BCF7-A4EB-426F-BF5F-60189540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F22-5FD5-4F53-8563-41A038F1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6481-F747-4DC2-B1C3-DCDE18DE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C10-4296-4D81-BE5F-C0D92575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0D59-F2AC-4297-82FB-5FADC466B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POWERFLC ncomtmap.fli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POWERFLC T.MITgcm.SW06.new.01.0.xy19.0000000000_0000057600.fli" TargetMode="External"/><Relationship Id="rId2" Type="http://schemas.openxmlformats.org/officeDocument/2006/relationships/hyperlink" Target="POWERFLC T.MITgcm.SW06.new.01.0.xy15.0000000000_0000057600.fli" TargetMode="External"/><Relationship Id="rId3" Type="http://schemas.openxmlformats.org/officeDocument/2006/relationships/hyperlink" Target="POWERFLC T.MITgcm.SW06.new.01.0.xy1a.0000000000_0000057600.fli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POWERFLC T.MITgcm.SW06.new.01.0.xz164.0000000000_0000057600.fli" TargetMode="External"/><Relationship Id="rId2" Type="http://schemas.openxmlformats.org/officeDocument/2006/relationships/hyperlink" Target="POWERFLC T.MITgcm.SW06.new.01.0.xz272.0000000000_0000057600.fli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hydrostatic Modeling of SW06 and the New Jersey Shel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k C. Gall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Schaferko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erdr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6284880"/>
            <a:ext cx="69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LIWI Modeling Meeting, October 3-4, 2006, Washington,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377120" y="152280"/>
            <a:ext cx="146196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t_01.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73.8W,72.1W]x[38.25N,40.0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5 to August 4,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x = 284 , ny = 380, nz = 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x = 0.0060˚, dy = 0.0046˚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z = 1.0 m to 300.0 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 = 15.0 se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rly forcing from NCOM-SW-06-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41840" y="141912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Nonhydro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Three dimen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Very high reso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 with nested N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191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Germana Peggion’s foreca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Focus on nonlinear internal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RL DBDB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191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minute (4 km) bathy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AA &amp; USGS bathy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191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second (84m) bathy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38200" y="75600"/>
            <a:ext cx="62755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gcm Simulations a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1039680"/>
            <a:ext cx="4324320" cy="5284800"/>
            <a:chOff x="228600" y="1039680"/>
            <a:chExt cx="4324320" cy="5284800"/>
          </a:xfrm>
        </p:grpSpPr>
        <p:grpSp>
          <p:nvGrpSpPr>
            <p:cNvPr id="50" name=""/>
            <p:cNvGrpSpPr/>
            <p:nvPr/>
          </p:nvGrpSpPr>
          <p:grpSpPr>
            <a:xfrm>
              <a:off x="228600" y="1039680"/>
              <a:ext cx="4324320" cy="5284800"/>
              <a:chOff x="228600" y="1039680"/>
              <a:chExt cx="4324320" cy="528480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228600" y="1039680"/>
                <a:ext cx="4324320" cy="5284800"/>
                <a:chOff x="228600" y="1039680"/>
                <a:chExt cx="4324320" cy="5284800"/>
              </a:xfrm>
            </p:grpSpPr>
            <p:pic>
              <p:nvPicPr>
                <p:cNvPr id="5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" y="1039680"/>
                  <a:ext cx="4324320" cy="528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" name=""/>
                <p:cNvSpPr/>
                <p:nvPr/>
              </p:nvSpPr>
              <p:spPr>
                <a:xfrm>
                  <a:off x="2753280" y="3230640"/>
                  <a:ext cx="523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W0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" name=""/>
              <p:cNvSpPr/>
              <p:nvPr/>
            </p:nvSpPr>
            <p:spPr>
              <a:xfrm>
                <a:off x="2743200" y="3173040"/>
                <a:ext cx="119160" cy="1191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2362320" y="2868480"/>
              <a:ext cx="761760" cy="9907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47920" y="1752480"/>
              <a:ext cx="2514600" cy="2743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3880" y="1981080"/>
              <a:ext cx="1828800" cy="2286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6760" y="426708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k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01960" y="403848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k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73360" y="364176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k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>
            <a:hlinkClick r:id="rId2"/>
          </p:cNvPr>
          <p:cNvSpPr/>
          <p:nvPr/>
        </p:nvSpPr>
        <p:spPr>
          <a:xfrm>
            <a:off x="72388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izontal Cross-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"/>
          </p:cNvPr>
          <p:cNvSpPr/>
          <p:nvPr/>
        </p:nvSpPr>
        <p:spPr>
          <a:xfrm>
            <a:off x="76201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"/>
          </p:cNvPr>
          <p:cNvSpPr/>
          <p:nvPr/>
        </p:nvSpPr>
        <p:spPr>
          <a:xfrm>
            <a:off x="7620120" y="3352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305"/>
                </a:moveTo>
                <a:lnTo>
                  <a:pt x="4707" y="7305"/>
                </a:lnTo>
                <a:lnTo>
                  <a:pt x="5090" y="7670"/>
                </a:lnTo>
                <a:lnTo>
                  <a:pt x="14299" y="7670"/>
                </a:lnTo>
                <a:lnTo>
                  <a:pt x="14856" y="8227"/>
                </a:lnTo>
                <a:lnTo>
                  <a:pt x="14856" y="8776"/>
                </a:lnTo>
                <a:lnTo>
                  <a:pt x="16701" y="8776"/>
                </a:lnTo>
                <a:lnTo>
                  <a:pt x="17067" y="8227"/>
                </a:lnTo>
                <a:lnTo>
                  <a:pt x="17806" y="8227"/>
                </a:lnTo>
                <a:lnTo>
                  <a:pt x="17806" y="13380"/>
                </a:lnTo>
                <a:lnTo>
                  <a:pt x="17067" y="13380"/>
                </a:lnTo>
                <a:lnTo>
                  <a:pt x="16701" y="12832"/>
                </a:lnTo>
                <a:lnTo>
                  <a:pt x="14856" y="12832"/>
                </a:lnTo>
                <a:lnTo>
                  <a:pt x="14856" y="14111"/>
                </a:lnTo>
                <a:lnTo>
                  <a:pt x="5273" y="14111"/>
                </a:lnTo>
                <a:lnTo>
                  <a:pt x="5273" y="9881"/>
                </a:lnTo>
                <a:lnTo>
                  <a:pt x="5090" y="9881"/>
                </a:lnTo>
                <a:lnTo>
                  <a:pt x="4707" y="10247"/>
                </a:lnTo>
                <a:lnTo>
                  <a:pt x="3794" y="102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7620120" y="1523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305"/>
                </a:moveTo>
                <a:lnTo>
                  <a:pt x="4707" y="7305"/>
                </a:lnTo>
                <a:lnTo>
                  <a:pt x="5090" y="7670"/>
                </a:lnTo>
                <a:lnTo>
                  <a:pt x="14299" y="7670"/>
                </a:lnTo>
                <a:lnTo>
                  <a:pt x="14856" y="8227"/>
                </a:lnTo>
                <a:lnTo>
                  <a:pt x="14856" y="8776"/>
                </a:lnTo>
                <a:lnTo>
                  <a:pt x="16701" y="8776"/>
                </a:lnTo>
                <a:lnTo>
                  <a:pt x="17067" y="8227"/>
                </a:lnTo>
                <a:lnTo>
                  <a:pt x="17806" y="8227"/>
                </a:lnTo>
                <a:lnTo>
                  <a:pt x="17806" y="13380"/>
                </a:lnTo>
                <a:lnTo>
                  <a:pt x="17067" y="13380"/>
                </a:lnTo>
                <a:lnTo>
                  <a:pt x="16701" y="12832"/>
                </a:lnTo>
                <a:lnTo>
                  <a:pt x="14856" y="12832"/>
                </a:lnTo>
                <a:lnTo>
                  <a:pt x="14856" y="14111"/>
                </a:lnTo>
                <a:lnTo>
                  <a:pt x="5273" y="14111"/>
                </a:lnTo>
                <a:lnTo>
                  <a:pt x="5273" y="9881"/>
                </a:lnTo>
                <a:lnTo>
                  <a:pt x="5090" y="9881"/>
                </a:lnTo>
                <a:lnTo>
                  <a:pt x="4707" y="10247"/>
                </a:lnTo>
                <a:lnTo>
                  <a:pt x="3794" y="102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514600" y="2766960"/>
            <a:ext cx="4662360" cy="1957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4680000" cy="1958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14600" y="4916520"/>
            <a:ext cx="47991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tical cross-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.5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.5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.5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.0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/>
          </p:cNvPr>
          <p:cNvSpPr/>
          <p:nvPr/>
        </p:nvSpPr>
        <p:spPr>
          <a:xfrm>
            <a:off x="7010280" y="45957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301"/>
                </a:moveTo>
                <a:lnTo>
                  <a:pt x="4711" y="7301"/>
                </a:lnTo>
                <a:lnTo>
                  <a:pt x="5094" y="7667"/>
                </a:lnTo>
                <a:lnTo>
                  <a:pt x="14303" y="7667"/>
                </a:lnTo>
                <a:lnTo>
                  <a:pt x="14860" y="8224"/>
                </a:lnTo>
                <a:lnTo>
                  <a:pt x="14860" y="8772"/>
                </a:lnTo>
                <a:lnTo>
                  <a:pt x="16705" y="8772"/>
                </a:lnTo>
                <a:lnTo>
                  <a:pt x="17070" y="8224"/>
                </a:lnTo>
                <a:lnTo>
                  <a:pt x="17810" y="8224"/>
                </a:lnTo>
                <a:lnTo>
                  <a:pt x="17810" y="13376"/>
                </a:lnTo>
                <a:lnTo>
                  <a:pt x="17070" y="13376"/>
                </a:lnTo>
                <a:lnTo>
                  <a:pt x="16705" y="12828"/>
                </a:lnTo>
                <a:lnTo>
                  <a:pt x="14860" y="12828"/>
                </a:lnTo>
                <a:lnTo>
                  <a:pt x="14860" y="14107"/>
                </a:lnTo>
                <a:lnTo>
                  <a:pt x="5277" y="14107"/>
                </a:lnTo>
                <a:lnTo>
                  <a:pt x="5277" y="9877"/>
                </a:lnTo>
                <a:lnTo>
                  <a:pt x="5094" y="9877"/>
                </a:lnTo>
                <a:lnTo>
                  <a:pt x="4711" y="10243"/>
                </a:lnTo>
                <a:lnTo>
                  <a:pt x="379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"/>
          </p:cNvPr>
          <p:cNvSpPr/>
          <p:nvPr/>
        </p:nvSpPr>
        <p:spPr>
          <a:xfrm>
            <a:off x="7010280" y="16239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301"/>
                </a:moveTo>
                <a:lnTo>
                  <a:pt x="4711" y="7301"/>
                </a:lnTo>
                <a:lnTo>
                  <a:pt x="5094" y="7667"/>
                </a:lnTo>
                <a:lnTo>
                  <a:pt x="14303" y="7667"/>
                </a:lnTo>
                <a:lnTo>
                  <a:pt x="14860" y="8224"/>
                </a:lnTo>
                <a:lnTo>
                  <a:pt x="14860" y="8772"/>
                </a:lnTo>
                <a:lnTo>
                  <a:pt x="16705" y="8772"/>
                </a:lnTo>
                <a:lnTo>
                  <a:pt x="17070" y="8224"/>
                </a:lnTo>
                <a:lnTo>
                  <a:pt x="17810" y="8224"/>
                </a:lnTo>
                <a:lnTo>
                  <a:pt x="17810" y="13376"/>
                </a:lnTo>
                <a:lnTo>
                  <a:pt x="17070" y="13376"/>
                </a:lnTo>
                <a:lnTo>
                  <a:pt x="16705" y="12828"/>
                </a:lnTo>
                <a:lnTo>
                  <a:pt x="14860" y="12828"/>
                </a:lnTo>
                <a:lnTo>
                  <a:pt x="14860" y="14107"/>
                </a:lnTo>
                <a:lnTo>
                  <a:pt x="5277" y="14107"/>
                </a:lnTo>
                <a:lnTo>
                  <a:pt x="5277" y="9877"/>
                </a:lnTo>
                <a:lnTo>
                  <a:pt x="5094" y="9877"/>
                </a:lnTo>
                <a:lnTo>
                  <a:pt x="4711" y="10243"/>
                </a:lnTo>
                <a:lnTo>
                  <a:pt x="379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752560" y="5410080"/>
            <a:ext cx="3419640" cy="14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712960" y="3962520"/>
            <a:ext cx="3306960" cy="1388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2712960" y="2573280"/>
            <a:ext cx="3306960" cy="1389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2714760" y="1125360"/>
            <a:ext cx="330516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380880"/>
            <a:ext cx="5153040" cy="6299280"/>
            <a:chOff x="0" y="380880"/>
            <a:chExt cx="5153040" cy="629928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0" y="380880"/>
              <a:ext cx="5153040" cy="62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670120" y="265752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97360" y="2924280"/>
              <a:ext cx="141120" cy="141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43040" y="2560680"/>
              <a:ext cx="908280" cy="1181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51240" y="2287440"/>
              <a:ext cx="1544400" cy="15447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688840" y="2895120"/>
              <a:ext cx="298440" cy="34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63880" y="3281400"/>
              <a:ext cx="266760" cy="134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43040" y="4587840"/>
              <a:ext cx="199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RC Convair flight 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257800" y="380880"/>
            <a:ext cx="3886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ions 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Very high reso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ITgcm nonhydrostatic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orced with nested N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ocus on nonlinear internal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ased on previous work 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ITgcm simulations of Hud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yon gene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ested NCOM simulation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mplitude internal wa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helf and slope in SW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86400" y="4529160"/>
            <a:ext cx="3348360" cy="1859040"/>
            <a:chOff x="5486400" y="4529160"/>
            <a:chExt cx="3348360" cy="1859040"/>
          </a:xfrm>
        </p:grpSpPr>
        <p:grpSp>
          <p:nvGrpSpPr>
            <p:cNvPr id="89" name=""/>
            <p:cNvGrpSpPr/>
            <p:nvPr/>
          </p:nvGrpSpPr>
          <p:grpSpPr>
            <a:xfrm>
              <a:off x="5486400" y="4529160"/>
              <a:ext cx="3348360" cy="642600"/>
              <a:chOff x="5486400" y="4529160"/>
              <a:chExt cx="3348360" cy="642600"/>
            </a:xfrm>
          </p:grpSpPr>
          <p:sp>
            <p:nvSpPr>
              <p:cNvPr id="90" name=""/>
              <p:cNvSpPr/>
              <p:nvPr/>
            </p:nvSpPr>
            <p:spPr>
              <a:xfrm>
                <a:off x="5486400" y="4605120"/>
                <a:ext cx="152280" cy="151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74680" y="4529160"/>
                <a:ext cx="316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W_06_new Domain (0.5k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urrent simul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486400" y="5229360"/>
              <a:ext cx="3070080" cy="642600"/>
              <a:chOff x="5486400" y="5229360"/>
              <a:chExt cx="3070080" cy="642600"/>
            </a:xfrm>
          </p:grpSpPr>
          <p:sp>
            <p:nvSpPr>
              <p:cNvPr id="93" name=""/>
              <p:cNvSpPr/>
              <p:nvPr/>
            </p:nvSpPr>
            <p:spPr>
              <a:xfrm>
                <a:off x="5486400" y="5305320"/>
                <a:ext cx="152280" cy="152640"/>
              </a:xfrm>
              <a:prstGeom prst="rect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673600" y="5229360"/>
                <a:ext cx="2882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BSF Domain (0.5k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uture simul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486400" y="6019920"/>
              <a:ext cx="2035440" cy="368280"/>
              <a:chOff x="5486400" y="6019920"/>
              <a:chExt cx="2035440" cy="368280"/>
            </a:xfrm>
          </p:grpSpPr>
          <p:sp>
            <p:nvSpPr>
              <p:cNvPr id="96" name=""/>
              <p:cNvSpPr/>
              <p:nvPr/>
            </p:nvSpPr>
            <p:spPr>
              <a:xfrm>
                <a:off x="5486400" y="6129360"/>
                <a:ext cx="119160" cy="118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717880" y="6019920"/>
                <a:ext cx="180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W06 Mooring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O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m, Nash, Gawarkiewicz, Duda, Heny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 Sen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ber, Williams,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+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son, A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and Transformation of NLI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tion and Disintegration of NLI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+M signatures of NLI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2:33:27Z</dcterms:created>
  <dc:creator>Patrick C. Gallacher</dc:creator>
  <dc:description/>
  <dc:language>en-US</dc:language>
  <cp:lastModifiedBy>Patrick C. Gallacher</cp:lastModifiedBy>
  <dcterms:modified xsi:type="dcterms:W3CDTF">2007-01-31T15:45:28Z</dcterms:modified>
  <cp:revision>21</cp:revision>
  <dc:subject/>
  <dc:title>Nonhydrostatic Modeling of SW06 and the New Jersey Shelf</dc:title>
</cp:coreProperties>
</file>