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5CCE-2564-4E4E-B058-BD529CBA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rged packet has a direction intermediate between the incoming pac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owed CTD chain data if possible on a new slide  (This is right after the first Knorr racetrack).  Jim Moum told us that the first packet was mod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wave speed;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vertical displacement field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9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z) = pre-existing 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 comparison will use the profile &amp; amplitude appropriate for each wave and will correct for cur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vie starts with an internal bore, but no wave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vie ends when the packet is about to merge with another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A6B-6F3B-4B9D-96D3-8B39BBFA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31E-08F3-4660-8290-E4ABD472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A33-3C4C-487D-83B3-83EE998D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628-ADB1-4CF8-8956-F494E8B3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640-537A-4A5A-8AE2-5DD4CB45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E0E-2ADF-462E-B475-AD1C5EB0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0D9-4E9C-496F-B113-F45630F0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D88-9E0A-4DD2-99FE-1D7F778C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832-0182-4167-8998-63D41B87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495-DF48-44B3-B3F1-0EA3487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ACC-EAA2-4202-B676-7741F0E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0B6-16BB-450F-BDC4-85C2AB4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1204-8128-48FB-A432-4271D2BC6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eavor Cruise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/5 to 8/19</a:t>
            </a:r>
            <a:br>
              <a:rPr sz="3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ed CT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038480"/>
            <a:ext cx="6858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S Henyey, K L Willia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M Becker, J Lyons, M Ballard, J Camin, P Gabel, I Koszalka, J Be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0040" y="4952880"/>
            <a:ext cx="863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d intended to follow one wave packet across the sh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n this location and time, the packets were fr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ng and merging with others, and never made it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elf unaffected by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8380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 of a SAR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d by H. Gr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394488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2000" y="0"/>
            <a:ext cx="7638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gence (wave front curvature) acts like diss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Bill Plant’s radar might show 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ustic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ly we were near acoustic transmission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lly, we repeate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nt parallel to path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rr to a receiver mo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119000">
            <a:off x="4268160" y="49510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ce north of 39° N [k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924732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33019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ing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84960" y="1038240"/>
            <a:ext cx="2378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ss through the joining of the two first w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pass to the right (2 pack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&amp; subsequent passes to the left (merged pack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ust after emerging from the forest (of moor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61360" y="640080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’s 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5335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 2 wa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6937200" cy="526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25360" y="4724280"/>
            <a:ext cx="76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0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5600" y="5638680"/>
            <a:ext cx="4586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vironmental Data Summary for August 12, 2006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12 real time data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y little Internal wave activity seen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ott Glenn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1320" y="5638680"/>
            <a:ext cx="292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0ebf"/>
                </a:solidFill>
                <a:latin typeface="Arial"/>
              </a:rPr>
              <a:t>Jim Moum and we weren’t the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0ebf"/>
                </a:solidFill>
                <a:latin typeface="Arial"/>
              </a:rPr>
              <a:t>ones to notice something stran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60160" y="2438280"/>
            <a:ext cx="180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e1f41"/>
                </a:solidFill>
                <a:latin typeface="Arial"/>
              </a:rPr>
              <a:t>Mode 2 &amp; no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e1f41"/>
                </a:solidFill>
                <a:latin typeface="Arial"/>
              </a:rPr>
              <a:t>caused by win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6440" y="2590920"/>
            <a:ext cx="159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oustics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8954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437920" y="2895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T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81480" y="1600200"/>
            <a:ext cx="3429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CT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m apart -- 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s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n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cord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ports (C,P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4062240"/>
            <a:ext cx="3429000" cy="271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76840" y="59054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very 2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70280" y="4444920"/>
            <a:ext cx="1003320" cy="381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&amp; 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nsity &amp; sound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fluctuations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nternal waves--propa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peed fluctuations without density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ly adv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ed by ADCP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ed Chain Test Crui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4-8, 200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 nautical miles south of Providence R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2640" y="5105520"/>
            <a:ext cx="31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wave packe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d of two or three small w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438800" cy="3497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353040" cy="333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1560" y="203040"/>
            <a:ext cx="1537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th China S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n-Chieh Li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2520" y="525780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Large W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st with SW06 Cru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6920" y="495288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grew to have many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5791320" cy="408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52480" y="5638680"/>
            <a:ext cx="52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issue:  Why the dif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other difference--mod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Sp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03320" y="838080"/>
            <a:ext cx="924732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reil-Jacotin, Long (DJL)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6600" y="4572000"/>
            <a:ext cx="265788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lang="en-US" sz="2400" spc="-1" strike="noStrike" baseline="-9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–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905120"/>
            <a:ext cx="754380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tary Wave (unchanging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dissip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rily Larg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by method of Turkingt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firs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speed from DJ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61960" y="1965240"/>
            <a:ext cx="6286680" cy="462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09680" y="4191120"/>
            <a:ext cx="4038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of a wave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7150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20:57:51Z</dcterms:created>
  <dc:creator>Frank Henyey</dc:creator>
  <dc:description/>
  <dc:language>en-US</dc:language>
  <cp:lastModifiedBy>Dajun Tang</cp:lastModifiedBy>
  <dcterms:modified xsi:type="dcterms:W3CDTF">2007-01-26T20:00:14Z</dcterms:modified>
  <cp:revision>32</cp:revision>
  <dc:subject/>
  <dc:title>Internal Wave Measurements With a Towed CTD Chain on the New Jersey Shelf</dc:title>
</cp:coreProperties>
</file>